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B097-A7B8-4095-BDFA-C1AA96C9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8ACE-D23C-4270-8046-536EFE2B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79D8-7BF8-42E3-BE76-C2CA416F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B5A8-CA6C-4379-8E76-4F6F116C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5BAE-8865-4FB0-9811-65300391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3425-4985-4B75-B1C7-3368C9F5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ACC7-9CA9-4EB9-9BA9-2C84BD28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562D-64B0-415F-AF57-472879D5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8E3E-741E-4E86-95AE-1FBF9446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8369-B38E-4CA5-B538-C6753FDC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F239-1CA9-49BD-AE9D-EB8AD9F0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8CB7-B076-468E-BD74-FC998B7C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92A8-39FE-40CD-AB27-846CC1766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711000"/>
            <a:ext cx="8444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ory Elem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58320" y="1504800"/>
            <a:ext cx="7466040" cy="48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- Lois Low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y Elements by Madison Y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556080" y="1809720"/>
            <a:ext cx="26794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                       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setting is 1943 and the Nazis and German Soldiors are taking over Denmark, and relocating Jewish peopl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4991040" y="1887480"/>
            <a:ext cx="43941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                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Main Character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nemarie- The brave friend who goes on a brave, but dangerous mission to help save her best friend who is Jewish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len-The best friend who is Jewish and her and her family is being sent to Sweden by Annemarie's Uncle Henric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530680" y="1504440"/>
            <a:ext cx="378936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734080" y="1581120"/>
            <a:ext cx="4289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226120" y="1581120"/>
            <a:ext cx="3795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5181480" y="1403280"/>
            <a:ext cx="395316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                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Minor Character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6240" y="1828800"/>
            <a:ext cx="4587840" cy="569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se- She is Annemarie's older brother but she dies by a German car while being in the resistanc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cle Hentick- He is helping the Rosens' escape to Sweden bu keeping them in a secret compartment on his boat and sailing them to Swede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ter- He was Lise's fiance and a part of the resistanc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5079960" y="1708200"/>
            <a:ext cx="46371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                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max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climax is when Mama breaks her ankle and Annemarie has to take a brave, but dangerous mssion through the dark forest to give Uncle Henrick something in a basket that can help save Ellen and her family's lif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4775040" y="996840"/>
            <a:ext cx="49532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                      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theme of bravery in this story is when Annemarie goes in the woods and has to talk to soldiors and has to bring Uncle Henrick a basket with a something that can save Ellen and her family's lif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5181480" y="1301760"/>
            <a:ext cx="425952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Windows User</cp:lastModifiedBy>
  <dcterms:modified xsi:type="dcterms:W3CDTF">2011-02-09T14:22:30Z</dcterms:modified>
  <cp:revision>1</cp:revision>
  <dc:subject/>
  <dc:title>PowerPoint Presentation</dc:title>
</cp:coreProperties>
</file>